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2ABA-3458-4007-B193-BF675B76D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2807-EF88-4BC0-918A-A36FF7F03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F880-0090-49BA-9F12-639362F50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7262-0672-4F19-B361-3534C8F14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88C5-8D2E-4FEC-A7C2-C10570649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E733-6B39-430A-9B43-F07A49B13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9C64-08A9-45FD-AD70-46C3E70E1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CE45-2EB3-4513-B431-6B24D6B01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6B3C-9E17-4966-8F3E-454822D8C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35D4-8F05-4EE8-8F82-D9B5CB1F46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6B62-CE7B-441D-813A-AC3ACE495A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FE0C-6FBA-4697-AA0F-016B4F50C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14BF-7CEE-42F6-AA14-CCBFEC25E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F329-59E5-4AFD-BAC8-81826A316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F164-DF01-4730-A874-074FEF0B0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475D-E134-4884-899B-B6628E762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B069-6307-4C96-A5C3-68C99325C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8E82-838E-4565-964B-EA3FF72DD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02CD-546E-472C-B5C0-311E7BA0B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DAC3-7B99-4BD7-B894-A359088A9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hirtee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Progra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gram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3-1.jpg"/>
          <p:cNvPicPr/>
          <p:nvPr/>
        </p:nvPicPr>
        <p:blipFill>
          <a:blip r:embed="rId1"/>
          <a:stretch/>
        </p:blipFill>
        <p:spPr>
          <a:xfrm>
            <a:off x="2209680" y="2666880"/>
            <a:ext cx="514980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577A-30E3-4349-8C31-5227D2385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is training that is designed to provide employees with essential skills required to perform their job, and adapt to workplac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becoming more important as competition in world econom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ccess of other training programs can be affected if essential skills no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has benefits for the organization and the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7A7C-D04C-43B1-BC7B-D4A0F453E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ical 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in specific job skills that all employees need to perform their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13-3.jpg"/>
          <p:cNvPicPr/>
          <p:nvPr/>
        </p:nvPicPr>
        <p:blipFill>
          <a:blip r:embed="rId1"/>
          <a:stretch/>
        </p:blipFill>
        <p:spPr>
          <a:xfrm>
            <a:off x="228600" y="2743200"/>
            <a:ext cx="421308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13-4.jpg"/>
          <p:cNvPicPr/>
          <p:nvPr/>
        </p:nvPicPr>
        <p:blipFill>
          <a:blip r:embed="rId2"/>
          <a:stretch/>
        </p:blipFill>
        <p:spPr>
          <a:xfrm>
            <a:off x="4648320" y="2743200"/>
            <a:ext cx="42606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A58B-4384-4ADA-A882-B7F655853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Technical Skills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in the manufacturing sectors, employers have had to respond to global competition, rapid change, and new technology  (environmental factors) with increased focus on technical skill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killed employees have had to become high skilled employees to ensure job security and organizational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e discussion of the impact of environmental factors on training in Ch 1 as illustrated in the Context of Training and Development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AEB8-64D9-40FD-BA41-AAA8D3DC2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Information Technolog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programs that focus on the use of computers and compute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mputer software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programs that focus on how to use a specific computer softwar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461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ly changing technology and computer applications makes this a challenge to meet employee training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74F1-801A-487C-8821-C520D75F7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proximately 900 workers die in Canada as a result of workplace 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50 000 Canadian workers have a lost time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orkplace injuries estimated to cost $12 billion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13-6.jpg"/>
          <p:cNvPicPr/>
          <p:nvPr/>
        </p:nvPicPr>
        <p:blipFill>
          <a:blip r:embed="rId1"/>
          <a:stretch/>
        </p:blipFill>
        <p:spPr>
          <a:xfrm>
            <a:off x="6324480" y="1676520"/>
            <a:ext cx="264816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E87B-5CB2-4AC5-9834-2320E3849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afety training is one of most important ways to deal with accidents before they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goal is to educate employees in safe work methods and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ing programs offered may also include first aid, CPR, defensive driving, and emergency prepared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mployees should also be trained to recognize chemical and phys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3FF2-7FA6-419B-A780-5973C3000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orkplace Hazardous Materials Information Systems (WHI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gislation to ensure workers          across Canada are aware of         potential hazards of chemicals       in the workplace, and are familiar with emergency procedures for    the clean-up and disposal of a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3-7.jpg"/>
          <p:cNvPicPr/>
          <p:nvPr/>
        </p:nvPicPr>
        <p:blipFill>
          <a:blip r:embed="rId1"/>
          <a:stretch/>
        </p:blipFill>
        <p:spPr>
          <a:xfrm>
            <a:off x="6227640" y="2666880"/>
            <a:ext cx="291636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858C-E1B1-43D7-97A0-9D991E91A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Qual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otal quality management (TQ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stematic process of continual improvement of the quality of an organization’s produc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so includes a teamwork and customer service 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558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QM often requires  significant changes in employees’ skills and the way employee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558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involves team training, the use of statistical tools, and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DF86-EE19-47CB-BFCC-F5A5AF279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am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 that are designed to improve the functioning and effectiveness of teams in areas such as communication and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processes are usually the 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training focuses on two types of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work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work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work skills should be mastered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7E7F-5F50-46AD-8D93-650B09817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ale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oday, sales professionals need to devel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strategic and complex relationships with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nowledge and understanding of customer’s needs an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lutions to customers’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business partner men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st have knowledge about their own products an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than just “motivating” staff to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6730-D7C8-4595-9A31-AF7009C36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orientation training programs and essential skill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echnical skills training and information technology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WHMIS legislation and describe the type of information that should be included in health and safety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otal quality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D091-43F7-442E-9A40-FA404A960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ustomer Service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41360" y="1617840"/>
            <a:ext cx="80931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rganizations with strong commitment to customer service invest heavily in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raining needs to be tailored to meet the organization’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well as its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loyees must have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abilit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o provide excellent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13-8.jpg"/>
          <p:cNvPicPr/>
          <p:nvPr/>
        </p:nvPicPr>
        <p:blipFill>
          <a:blip r:embed="rId1"/>
          <a:stretch/>
        </p:blipFill>
        <p:spPr>
          <a:xfrm>
            <a:off x="5486400" y="2819520"/>
            <a:ext cx="182556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F8E9-C627-40D8-96EF-77CE392BF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exual Harassment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xual harassment training is design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nd understanding of what constitutes sexual hara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train staff on policies and complaint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cilitate a positive climate that prevents  sexual hara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ten mandatory in certain occupational fields or environments where history of harassment has been pre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325D-8654-4630-A93F-27A76758B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thic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ics training programs involve teaching employees about the organizations’ values and ethic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ly with legal  mand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ain liability prot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ing an ethical culture and workplac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tracting and retaining the right type of employe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363B-22FD-4D02-AAE0-C5F797C00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thic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an effective ethics training pr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copy of organization’s code of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relevant compliance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thical decision mak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playing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DF58-7B6A-49C7-B315-75355DDEB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Divers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that focuses on differences in values, attitudes, and behaviours of individuals with different background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 It is design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nd understanding of cultur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improve interaction and communication among employees with different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e of most widely used strategies for managing diversity in the work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24C0-2422-4590-9C1D-A5C5AC648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Diversity Training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ty Training 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bout divers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duce biases and stere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ange behaviours to those required to work effectively in a diverse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13-9.jpg"/>
          <p:cNvPicPr/>
          <p:nvPr/>
        </p:nvPicPr>
        <p:blipFill>
          <a:blip r:embed="rId1"/>
          <a:stretch/>
        </p:blipFill>
        <p:spPr>
          <a:xfrm>
            <a:off x="6413400" y="1752480"/>
            <a:ext cx="273060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BBF9-5D83-488F-9D8A-D750E85AE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ivers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ty training should focu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war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8EC9-3D45-4C94-A2EB-74801518F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that prepares employees for working and living in different cultures and for interactions with persons from different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rigour is a critical factor in the effectiveness of the various methods used in cross cultur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13-11.jpg"/>
          <p:cNvPicPr/>
          <p:nvPr/>
        </p:nvPicPr>
        <p:blipFill>
          <a:blip r:embed="rId1"/>
          <a:stretch/>
        </p:blipFill>
        <p:spPr>
          <a:xfrm>
            <a:off x="6291360" y="1447920"/>
            <a:ext cx="28526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47AF-63A8-48F0-A82B-093204847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jor types of cross-cultural training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vironment brief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ltur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ltural assimi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nguag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nsitivity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el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BA50-3B37-4447-BC4E-F3DE9B228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raining Rig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The degree of mental involvement and effort that must be expended by the trainer and the trainee in order for the trainee to learn the required concep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967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Also refers to the length of time spent on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09960" y="4800600"/>
            <a:ext cx="88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 Rig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dium Rig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 Rig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pl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tr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language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6720" y="4267080"/>
            <a:ext cx="63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Different Levels of Rigou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D2B3-D6AD-412A-BE5C-7A538E40F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eam training and the main skills required of team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sales training and the skills required to be effective in s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customer-service training and the skills that employees require to interact effectively with custo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sexual harassment and describe sexual harassment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ethics training, diversity training and cross-cultural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833F-2E66-475D-974B-A608D44EA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gree of rigour required depends on three dimen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fficult it is to adjust to a new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ent to which employee will have to interact with lo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fficult tasks/job will be compared to current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85C7-C5D6-4B08-9896-03A38F25F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s for an effective cross-cultural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be considered manda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 should be chosen based                                on needs of the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th of training is of utmost impor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milies must be incorporated into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training should be incorpo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 and expectations of training should be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rainer’s Notebook 1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C2AC-6C3C-406C-BD40-3DE15E990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the major types of training programs offered in today’s organizations was prese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objectives, components, and success factors for many of the training program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k between the need for these programs, environmental influences in the world economy, and organizations’ strategies was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1BAE-BA68-4FEF-871D-7986CAD44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de variety of training programs are delivered in or provided to organizations across Can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actors influence what training is delivered and specific goals of each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most programs have common or generic goals that are transferable across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organizational factors will also determ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wh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raining i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 13.1 highlights the most common training programs in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E0FA-3C04-4959-851A-6CD72C29B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ypes of Training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34320" y="1752120"/>
            <a:ext cx="1828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p393.jpg"/>
          <p:cNvPicPr/>
          <p:nvPr/>
        </p:nvPicPr>
        <p:blipFill>
          <a:blip r:embed="rId1"/>
          <a:stretch/>
        </p:blipFill>
        <p:spPr>
          <a:xfrm>
            <a:off x="1828800" y="1639800"/>
            <a:ext cx="54864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95AF-05F1-40B6-A654-0602D2F21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New Employee</a:t>
            </a:r>
            <a:br>
              <a:rPr sz="3600"/>
            </a:b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Orientation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 designed to introduce new employees to their job, the people they will be working with, and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nducted in-house by human resource practitio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orientation programs have a positive effect on new employee attitudes and adjustment, can shape corporate culture, increase speed-to-proficiency, and lower turn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DAE9-3374-4FD0-9486-279DE2AE5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that are required for work, learning,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e essential skills identified by Government of Can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13-2.jpg"/>
          <p:cNvPicPr/>
          <p:nvPr/>
        </p:nvPicPr>
        <p:blipFill>
          <a:blip r:embed="rId1"/>
          <a:stretch/>
        </p:blipFill>
        <p:spPr>
          <a:xfrm>
            <a:off x="914400" y="4191120"/>
            <a:ext cx="30812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E077-16AD-4A49-B519-1FD6158CF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 essential skills are known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eracy skill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understand and employ printed information in daily activities at home, at work, and in th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D986-3E1A-4E6C-BC45-5791FD388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eracy Levels of Cana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% of Canadians aged 16-65 in the lowest levels  and are semi-lit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 million in the upper Level 2 and lower Level 3 (there are five lev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58% of Canadians can read well enough to meet most day-to-da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50:33Z</dcterms:modified>
  <cp:revision>410</cp:revision>
  <dc:subject/>
  <dc:title>Ch 13</dc:title>
</cp:coreProperties>
</file>